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3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5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E7E0-4AE9-4A0F-8D60-B686E124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3E7-2726-4BBE-B7C9-1675D73D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6DA-3E80-48D4-A4A9-9BFB7DE5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F9B6-548F-4BF5-9C82-0298937A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1CAD-06BA-4946-96FC-7CF14328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A1D-4419-4E3B-952B-CDD472CC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55A7-44BB-4D31-9C8F-0BA87A82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AA84-1178-4A75-B0E9-14F72057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31D-BB94-4AF1-BE81-D0F81381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B87-B5CC-4855-BE25-D7515C72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CE4F-D68B-46A2-ACB4-2488B789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45F1-3CE5-42D4-A796-34E75BFF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2C81-0D4C-4DDD-BA01-A6178184A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Рожњ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оц. др Татјана Шаренац Вул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тро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90% ткива од 500микрона у централном делу до 1000 микрона перифе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д ламела дебљине 2микрона дужине од 10-260 микр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вака ламела има колегене фибриле сличних дуж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ђусобно паралелне на растојању мањем од половине таласне дужине светл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међу су гликозаминогликани-основна супстанца строме-провидност стро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еза слаби од површине ка дубини- лако извођење дубоке кератектомије и кератопласти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ератоцити –модификовани фибробласти-синтеза колагена...ректи полиморфонуклеари, плазмоцити, лимфоци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васкуалрно, амијелинска нервна влак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Задња гранична мембр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аздваја строму од ендотела-базална мембрана ендотел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10 микро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езултат секреторне активности ендотел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Лако се одваја од околних структур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егенерише се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лагене фибриле чврсто повезане у облику мрежице-јако чврст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Задебљава у току живота и након неких патолошких проце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corneae hystology.jpg"/>
          <p:cNvPicPr/>
          <p:nvPr/>
        </p:nvPicPr>
        <p:blipFill>
          <a:blip r:embed="rId1"/>
          <a:stretch/>
        </p:blipFill>
        <p:spPr>
          <a:xfrm>
            <a:off x="1523880" y="1812960"/>
            <a:ext cx="6202440" cy="42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Ендоте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Један слој униформних хексагоналних ћел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500000 ћелија, смањује се број са старошћу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лога у процесу нормалне хидратације рожњаче- ендотелна пумпа- избацује јоне...осмоза- избацују воду у предњу очну комор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Интензивна метаболичка активнос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емају способност регенреациј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леоморфизам- мењање облика преосталих ћелија након трауме- код мањих дефека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Већи дефекти- инфлукс воде- едем рожњач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corneal-endothelium-ostrich.gif"/>
          <p:cNvPicPr/>
          <p:nvPr/>
        </p:nvPicPr>
        <p:blipFill>
          <a:blip r:embed="rId1"/>
          <a:stretch/>
        </p:blipFill>
        <p:spPr>
          <a:xfrm>
            <a:off x="1498680" y="1600200"/>
            <a:ext cx="6146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Инерв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игеминални живац-сензитивна инерв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сновни нервни сплет- строма- 2-4мм од лимбуса рожња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бепителни нервни сплет- између епитела и Бауманове мебране- иду до саме површине епителног сло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ол, епифора, фотофоб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Content Placeholder 4" descr="Figure-1-Three-dimensional-representation-of-the-innervation-of-the-human-cornea15BEP.png"/>
          <p:cNvPicPr/>
          <p:nvPr/>
        </p:nvPicPr>
        <p:blipFill>
          <a:blip r:embed="rId1"/>
          <a:stretch/>
        </p:blipFill>
        <p:spPr>
          <a:xfrm>
            <a:off x="457200" y="2367000"/>
            <a:ext cx="4038480" cy="299232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7" descr="anatomy-and-physiology-of-cornea-43-638 iner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Лимбу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емитранспарентна и васкуларизована зона према беоња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пител лимбуса- прелазак између епитела рожњаче и вежњач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Горњи и доњи део- стем прогениторске ћел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е дозвољавеју епителу вежњаче да пређе на рожњач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Губитак стем ћелија- дуго перзистирајући дефек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3" descr="The_human_limbus..jpg"/>
          <p:cNvPicPr/>
          <p:nvPr/>
        </p:nvPicPr>
        <p:blipFill>
          <a:blip r:embed="rId1"/>
          <a:stretch/>
        </p:blipFill>
        <p:spPr>
          <a:xfrm>
            <a:off x="1413000" y="1600200"/>
            <a:ext cx="63180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абирно сочиво јачине +43 диоптр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70% преломне моћи 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аје чврстину очној јабуч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Штити унутрашњост ока од спољашњих фак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з беоњачу и нормалан очни притисак одржава нормалан облик очне јабуч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Рожњача је предњи, провидни, аваскуларни део спољашњег омотача о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Одсечак лопте- закривљеност предње површине-7,8мм; задње површине- 6,8м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Хоризонтални дијаметар 11-12м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Вертикални дијаметар 10-11м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Централна дебљина 0,5-0,6м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ериферна дебљина 1,1-1,2м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Индекс преламања је 1,3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Семиологија патолошких промена на рожњ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роз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иламенти рожња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лцерација рожња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ас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филтр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д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идроп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аскуалриза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Ероз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граничени дефект епи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аума, али клинички знак 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акши продор миркоорагниз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јагностикује се флуоресцеинским бојењ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понатано зараста, али може и да се инфицира-инфекција и инфилтр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u05-01-9781455776443.jpg"/>
          <p:cNvPicPr/>
          <p:nvPr/>
        </p:nvPicPr>
        <p:blipFill>
          <a:blip r:embed="rId1"/>
          <a:stretch/>
        </p:blipFill>
        <p:spPr>
          <a:xfrm>
            <a:off x="4952880" y="3581280"/>
            <a:ext cx="3618000" cy="301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orneal abrasion.jpg"/>
          <p:cNvPicPr/>
          <p:nvPr/>
        </p:nvPicPr>
        <p:blipFill>
          <a:blip r:embed="rId2"/>
          <a:stretch/>
        </p:blipFill>
        <p:spPr>
          <a:xfrm>
            <a:off x="762120" y="1066680"/>
            <a:ext cx="364788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Филамен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атке муцинске кончасте творевине обложене епителним ћелијама, једним крајем причвршћене за повржину рожња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мерање са трептајем- осећај страног 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ојење Розе бенгал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filamentary-keratitis2.jpg"/>
          <p:cNvPicPr/>
          <p:nvPr/>
        </p:nvPicPr>
        <p:blipFill>
          <a:blip r:embed="rId1"/>
          <a:stretch/>
        </p:blipFill>
        <p:spPr>
          <a:xfrm>
            <a:off x="838080" y="4419720"/>
            <a:ext cx="2765520" cy="2103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DG37023AB1.jpg"/>
          <p:cNvPicPr/>
          <p:nvPr/>
        </p:nvPicPr>
        <p:blipFill>
          <a:blip r:embed="rId2"/>
          <a:stretch/>
        </p:blipFill>
        <p:spPr>
          <a:xfrm>
            <a:off x="5029200" y="4267080"/>
            <a:ext cx="3386160" cy="21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Улцерациј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Ограничени дефект епитела, Боуманове мембране и стром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ролиферација везивног ткива у строми и Баумновој мембраби- смањена провидност рожњач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Шире се по дубини и површин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убекула, макула, леук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Ширење инфекције по дубини- тањење строме- десцеметокела- перфорација рожњаче- пролапс дужице (предња синехиј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дхерентни леуком- блокада отицања очне водице кроз коморни угао- глауком- ектазија рожњаче- СТАФИЛ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3" descr="corneal-ulcer.png"/>
          <p:cNvPicPr/>
          <p:nvPr/>
        </p:nvPicPr>
        <p:blipFill>
          <a:blip r:embed="rId1"/>
          <a:stretch/>
        </p:blipFill>
        <p:spPr>
          <a:xfrm>
            <a:off x="1828800" y="2057400"/>
            <a:ext cx="5278320" cy="40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Фасета рожњач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пител брже регенерише од површне стро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фект епитела је прекривен новоствореним ћелиј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фект строме није репариран том брзи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ојење флуоресцеином- улегнуће, нема бој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Инфилтрат рожњач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лекција запаљенских ћелија на месту патолошког процеса у СТРО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з перилимбалних крвних удова- преко сузног филма или миграциј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пител интактан, али едематозан-десквамира се- егзулцерисани инфилтра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ериферно- имунска етиолог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Централно-инфективна етиолог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есорпција потпу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Леуком, васкуларизовани леук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corneal-emergencies-22-638.jpg"/>
          <p:cNvPicPr/>
          <p:nvPr/>
        </p:nvPicPr>
        <p:blipFill>
          <a:blip r:embed="rId1"/>
          <a:stretch/>
        </p:blipFill>
        <p:spPr>
          <a:xfrm>
            <a:off x="1533600" y="1147680"/>
            <a:ext cx="6076800" cy="45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Едем рожњач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купљање течности између ламела строме или у епител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компензација ендотела или услед повећаног ИО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окализовани или дифу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дебљала, смањене провидности, смањеног сјаја, везикуле и бу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тпуно повлачење или фиброзирање уз васкуларизац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истолошка грађ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пит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дња гранична мембр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р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дња гранична мембр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ндоте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Content Placeholder 3" descr="th (1).jpg"/>
          <p:cNvPicPr/>
          <p:nvPr/>
        </p:nvPicPr>
        <p:blipFill>
          <a:blip r:embed="rId1"/>
          <a:stretch/>
        </p:blipFill>
        <p:spPr>
          <a:xfrm>
            <a:off x="3319560" y="3009960"/>
            <a:ext cx="5373720" cy="365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acquired-interface-fluid-LRG.jpg"/>
          <p:cNvPicPr/>
          <p:nvPr/>
        </p:nvPicPr>
        <p:blipFill>
          <a:blip r:embed="rId2"/>
          <a:stretch/>
        </p:blipFill>
        <p:spPr>
          <a:xfrm>
            <a:off x="157320" y="0"/>
            <a:ext cx="47084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идропс рожњач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кутни инфлукс воде у строму рожња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след расцепа Десцеметове мембране (прогресија кератоконуса или у току порођај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валчење неколико недеља и фиброзир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hydrops1.jpg"/>
          <p:cNvPicPr/>
          <p:nvPr/>
        </p:nvPicPr>
        <p:blipFill>
          <a:blip r:embed="rId1"/>
          <a:stretch/>
        </p:blipFill>
        <p:spPr>
          <a:xfrm>
            <a:off x="5856120" y="4389480"/>
            <a:ext cx="3287880" cy="24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Васкуларизација рожњач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васкуларна-провид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ипоксија- васкулариз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овршна- са булбарне вежњаче или лимбуса (види се ток, црвени, мрежасти изглед-панус, повлачењ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убока- из великог артеријског прстена дужице или из цилијарног тела (не може да се прати ток, тамно црвени, нема анастомоз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ешовита васкулариз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3" descr="rosaceakerat.jpg"/>
          <p:cNvPicPr/>
          <p:nvPr/>
        </p:nvPicPr>
        <p:blipFill>
          <a:blip r:embed="rId1"/>
          <a:stretch/>
        </p:blipFill>
        <p:spPr>
          <a:xfrm>
            <a:off x="2597040" y="1932120"/>
            <a:ext cx="394992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Конгениталне аномалије рожњач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след поремећаја у развоју за време ембрионалног или феталног разво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слеђе, инфективни агенси, повреде, инткосик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6-16 недеље интраутериног разво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ављају се 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ођењу, спора прогре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еличина-мегало и микрокорнеа, облик, закривљеност, структура, замућ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ontent Placeholder 3" descr="megalo.jpg"/>
          <p:cNvPicPr/>
          <p:nvPr/>
        </p:nvPicPr>
        <p:blipFill>
          <a:blip r:embed="rId1"/>
          <a:stretch/>
        </p:blipFill>
        <p:spPr>
          <a:xfrm>
            <a:off x="609480" y="457200"/>
            <a:ext cx="2076480" cy="1447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ornea-plana.jpg"/>
          <p:cNvPicPr/>
          <p:nvPr/>
        </p:nvPicPr>
        <p:blipFill>
          <a:blip r:embed="rId2"/>
          <a:stretch/>
        </p:blipFill>
        <p:spPr>
          <a:xfrm>
            <a:off x="4724280" y="1143000"/>
            <a:ext cx="4195800" cy="2743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Keratoglobus.jpg"/>
          <p:cNvPicPr/>
          <p:nvPr/>
        </p:nvPicPr>
        <p:blipFill>
          <a:blip r:embed="rId3"/>
          <a:stretch/>
        </p:blipFill>
        <p:spPr>
          <a:xfrm>
            <a:off x="4724280" y="3962520"/>
            <a:ext cx="3880080" cy="2743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konus.jpg"/>
          <p:cNvPicPr/>
          <p:nvPr/>
        </p:nvPicPr>
        <p:blipFill>
          <a:blip r:embed="rId4"/>
          <a:stretch/>
        </p:blipFill>
        <p:spPr>
          <a:xfrm>
            <a:off x="685800" y="4724280"/>
            <a:ext cx="2162160" cy="1571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microcornea.jpg"/>
          <p:cNvPicPr/>
          <p:nvPr/>
        </p:nvPicPr>
        <p:blipFill>
          <a:blip r:embed="rId5"/>
          <a:stretch/>
        </p:blipFill>
        <p:spPr>
          <a:xfrm>
            <a:off x="533520" y="2438280"/>
            <a:ext cx="2882880" cy="19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Бактерисјки кератити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Staphyloccocus aureus, Staphyloccocus epidermidis, Streptoccocus pneumoniae, pseudomonas aeroginosa, Moraxel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брамбена функција рожњаче- епител и дезмозоми-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Neisseria gonorrhoeae, Corznebacterium diphteriae, Heamophylus influenzae, Lis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3" descr=""/>
          <p:cNvPicPr/>
          <p:nvPr/>
        </p:nvPicPr>
        <p:blipFill>
          <a:blip r:embed="rId1"/>
          <a:stretch/>
        </p:blipFill>
        <p:spPr>
          <a:xfrm>
            <a:off x="414360" y="231840"/>
            <a:ext cx="83152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Content Placeholder 3" descr="hypopion.jpg"/>
          <p:cNvPicPr/>
          <p:nvPr/>
        </p:nvPicPr>
        <p:blipFill>
          <a:blip r:embed="rId1"/>
          <a:stretch/>
        </p:blipFill>
        <p:spPr>
          <a:xfrm>
            <a:off x="2709720" y="2496960"/>
            <a:ext cx="3724560" cy="27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убјективне тегобе- бол, гребање у оку, појачано сузење, пурулентни секре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линичка слика-оток капака, блефароспазам , фотофобија, епифора, црвенило вежњаче, дефект епитела рожњаче који се боји фл, хипопион, синехије у пупилрној региј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ф дг- микотични кертитис, акантамебни кератитис, херпетични стромални некротизирајући кератити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јагностика- анамнеза, клиничка слика, брис промене на рожња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4" descr="hystology nice.jpg"/>
          <p:cNvPicPr/>
          <p:nvPr/>
        </p:nvPicPr>
        <p:blipFill>
          <a:blip r:embed="rId1"/>
          <a:stretch/>
        </p:blipFill>
        <p:spPr>
          <a:xfrm>
            <a:off x="457200" y="2287440"/>
            <a:ext cx="4038480" cy="3151440"/>
          </a:xfrm>
          <a:prstGeom prst="rect">
            <a:avLst/>
          </a:prstGeom>
          <a:ln w="0">
            <a:noFill/>
          </a:ln>
        </p:spPr>
      </p:pic>
      <p:pic>
        <p:nvPicPr>
          <p:cNvPr id="49" name="Content Placeholder 5" descr="corneae hystology.jpg"/>
          <p:cNvPicPr/>
          <p:nvPr/>
        </p:nvPicPr>
        <p:blipFill>
          <a:blip r:embed="rId2"/>
          <a:stretch/>
        </p:blipFill>
        <p:spPr>
          <a:xfrm>
            <a:off x="4495680" y="2438280"/>
            <a:ext cx="431496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Терап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окална примена антибиотика према антибирогра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цијална антибиотска терапија (аминогликозид и цефалоспорин или хинолон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истемска антибиотска терапија-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 pseudomonas aeroginosa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Neisseria gonorrhoe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Микотични кератити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Fusarium solani, Aspergilus fumigatus, Candida albic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тко али теш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уготрајна употеба антибиотика и кортикостероида, повре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лазак у рожњачу: директно преко биолошких материјала или индиректно након бактеријских или вирусних инфек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линичка слика: беличасти инфилтрат рођњаче нејасних граница , нераван, сателиске лезије около, Веселијев имунски прстен-линија контакта миктоичних антигена са антителима, хипопион, фибрински плак на ендотелу, секундарни глаук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убјективно: гребање у оку, бол, БЕФ,  замагљен вид, појачан секре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ф. Дг: бакретијски кератитиси, стромални херптеични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јагностика: анамнеза, клиничка слика, бри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Content Placeholder 3" descr="mycotic.jpg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ерапиј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окална примена антимикотика до 6 неде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бразија епитела пре терапија- боље продирање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ерфоративне кератоплас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Акантамебни кератити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Acantheamoeba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ма га у земљи, води и ваздух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д носилаца свих врста контактних сочива, најчешће мек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бјективно: умерена иритација уз осећај страног тела, БЕФ, јак б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Рани зна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ентрална епителиопатија- неправилан зрнасти изглед са тачкастим и дендритичним дефектима епитела(херпетични кератитис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еринеурални инфлитрати у рожњачи-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keratoneuritis radial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оклани инфилтрати површних слојева рожњаче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- keratitis numula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Ако се лечења не започне у прве 4 недеље...развијена клиничка сл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мплетан или инкомплетан инфилтрат строме прстенастог облика у централном делу рожња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паљенска рекација дужице- хипопион, задње синехије, секундарни глау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ontent Placeholder 3" descr="acanth.png"/>
          <p:cNvPicPr/>
          <p:nvPr/>
        </p:nvPicPr>
        <p:blipFill>
          <a:blip r:embed="rId1"/>
          <a:stretch/>
        </p:blipFill>
        <p:spPr>
          <a:xfrm>
            <a:off x="2133720" y="2163600"/>
            <a:ext cx="4876560" cy="34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јагностика: анамнеза-контактна сочива, клиничка слика, бр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ерапија: дуготрај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памидин изетионат и дибромпропамидин уз полихексаметилен бигуанид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ерфоративна кератоплас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Епите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10% целокупне дебљине 50-90 микр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5-7 слојева епителних ћелија без орожа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еђусобно чврсто спојене дезмозомима, чвршће и јаче у дубљим слоје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аријера за продор воде из спољне сре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пречава продор бактерија и гљив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Вирусни кератити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рпес симплекс тип и1 и 2, варичела зос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рационална употреба антибиотика и кортикостеро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90% одрасле популације има антитела на ХСВ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СВ 1- примарна, латетна и рекурентна инфек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имарна херпетична инфек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рви контакт са ХСВ 1, после 6. месеца живо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Капљично, директ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Инкубација 3-12 да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Манифестација-блажа респираторна инфекција, грозница, малаксалост, афтозни стоматити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Примарна окуларна инфекција: кожне везикуле, унилатерални фоликуларни конјунктивитис са истостраном лимфаденопатијом, промене на рожњачи- пунктиформне или дендритичн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Спонтано пролази 10-14 да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3% ацикловир у око, уколико нема промена на рожњач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Латентна херпетична инфек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току првих 48 сати, ХСВ напушта нападнуту регију и повлачи се у тригеминални реги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игер фактори: повишена телесна темпретура, физички или психички стрес, УВ зраци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ктивирани ХСВ се враћа на циљно ткиво- рожњача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екуренте херпетичне инфекције:Површне и</a:t>
            </a:r>
            <a:br>
              <a:rPr sz="2800"/>
            </a:b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тромалн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овршне- везикуле, дендтричне, географске и амебоидн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еадекватна терапија услед непрепознавања клиничке слике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д географског и амебодиног облика процес захвата и строму, па је испод дефекта инфилтра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линички критеријум: рецидиви, унилатералност и смањена остељивост рожњач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ерапија: 3% ацикловир локал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Content Placeholder 3" descr="dendr.jpg"/>
          <p:cNvPicPr/>
          <p:nvPr/>
        </p:nvPicPr>
        <p:blipFill>
          <a:blip r:embed="rId1"/>
          <a:stretch/>
        </p:blipFill>
        <p:spPr>
          <a:xfrm>
            <a:off x="0" y="0"/>
            <a:ext cx="6170760" cy="452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geogr.jpg"/>
          <p:cNvPicPr/>
          <p:nvPr/>
        </p:nvPicPr>
        <p:blipFill>
          <a:blip r:embed="rId2"/>
          <a:stretch/>
        </p:blipFill>
        <p:spPr>
          <a:xfrm>
            <a:off x="5638680" y="457200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тромални херпетични кератити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eratitis herpetica interstitialis, keratitis herpetica stromalis necroticans, keratitis disciform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нфекција ХСВ 1и имунска рекација строме рожњач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eratitis herpetica interstitialis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-имунски комплекси, секторасти или дифузни инфилтрат свих слојева, уцерација, иридоциклитис, хипопион. АЦИКЛОВИР-СИСТ И Л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eratitis herpetica stromalis necroticans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-слично као интерстицијални, бржег тока, перфор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keratitis disciformis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- касна преостељивос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скодино централно задебљање, набори МД, преципитати на ендотел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ерапија: кортикостероиди и антивирусни леков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ко постоји дефект епитела, контариндикована је употеба КС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stro.jpg"/>
          <p:cNvPicPr/>
          <p:nvPr/>
        </p:nvPicPr>
        <p:blipFill>
          <a:blip r:embed="rId1"/>
          <a:stretch/>
        </p:blipFill>
        <p:spPr>
          <a:xfrm>
            <a:off x="6477120" y="4724280"/>
            <a:ext cx="240984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ВЗВ кератити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Површни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- неколико дана после појаве промена на кожи. Тх: 3% ациклови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0000"/>
                </a:solidFill>
                <a:latin typeface="Calibri"/>
              </a:rPr>
              <a:t>Дубоки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нумуларни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(7-10 после почетка болести, инфилтрат окружен узаним едемом у строми, интактан епител, спонатана ресоспција или ожиљавање) и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исциформни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(2-3 недеље после, сличан као ХСВ1 дисциформни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Content Placeholder 3" descr="herpes_zoster_ophthalmicus.gif"/>
          <p:cNvPicPr/>
          <p:nvPr/>
        </p:nvPicPr>
        <p:blipFill>
          <a:blip r:embed="rId1"/>
          <a:stretch/>
        </p:blipFill>
        <p:spPr>
          <a:xfrm>
            <a:off x="2209680" y="1600200"/>
            <a:ext cx="4724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Неуротрофички кератити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 анестетичној рожњачи-губитак сензитивне инервације коа обезбеђује трофик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Запаљење или повреде тригеминалном живца, акустични неурином, вирусни кератитиси, јатрогена-анестетици, бета блокатори..., ДМ, конгенитал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л знаци: благ едем епитела уз фотофобију, црвенило и смањен вид; тачкасти дефекти епитела у интерпалпебралној регији; пространа хоризонтално овална ерозија у централном дел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Хронични ток, секундарна инфекција (Гр-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огресија до перфора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ерапија: медикаментна-вештачке сузе, антибиотик, терапијска ембранаили оклузија; хируршка-јатрогена птоза-ботулински токсин, темпорална тарзорафија, апликација амнионске мембра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идезмозоми-веза са базалном мембраном- мања регенеративна моћ него епит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фект епитела зараста за 24-48 с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Content Placeholder 3" descr="tumblr_luatj1kr6h1qeo1dvo1_500.jpg"/>
          <p:cNvPicPr/>
          <p:nvPr/>
        </p:nvPicPr>
        <p:blipFill>
          <a:blip r:embed="rId1"/>
          <a:stretch/>
        </p:blipFill>
        <p:spPr>
          <a:xfrm>
            <a:off x="2190600" y="2281320"/>
            <a:ext cx="476280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ератитис због лагофталму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Због неадекватног влажења рожњаче суза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Лагофталу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линичка слика: промене на капцима, епифора, гребање, смањен вид.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ункитформна епителиопатија (доња трећин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већање постојећих промена, десквамација епиелтних ћелија и улцерација-хоризонтално овал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епарција улцерације везивним ткивом уз васкуларизациј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иф дг: неуротрофички и суви К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х: вештачке сузе (течне, гел маст) и влажна комора; хирурчка- корекција ектропијума, репарција дефкта на капцима или декомпресија орбите, темпорална тарзораф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3" descr="based.png"/>
          <p:cNvPicPr/>
          <p:nvPr/>
        </p:nvPicPr>
        <p:blipFill>
          <a:blip r:embed="rId1"/>
          <a:stretch/>
        </p:blipFill>
        <p:spPr>
          <a:xfrm>
            <a:off x="4876920" y="5715000"/>
            <a:ext cx="2286000" cy="847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facialisparese2.jpg"/>
          <p:cNvPicPr/>
          <p:nvPr/>
        </p:nvPicPr>
        <p:blipFill>
          <a:blip r:embed="rId2"/>
          <a:stretch/>
        </p:blipFill>
        <p:spPr>
          <a:xfrm>
            <a:off x="7662960" y="5029200"/>
            <a:ext cx="14810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Кератитис изазван лекови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Адреналин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- браонкасти депозити на доњем тарзусу, Бауманов слој и стро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Хинолони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- беличасти депозити у пределу дефкта на рожњач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Антималарици и антиаритмици-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вртложаста кератопатија, билатерална, симетрична, доња трећина рожњаче, не смањују вид, спонатно се губ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Фенотиазини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- интерпалпебрални жућкасто браон депозити строме, ДМ и ендотела, не губе с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Злато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- дифузно, прашинасто црвенкасти депозити, не смањују вид, губе се после годину дана од престанка терап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истрофије рожњач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редитарно, билатерално, симетрич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ентрал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ез васкулариз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ано почи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поро напреду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ма узрочне повеза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строфија предње површине- дистрофија епитела и Баумановог слоја (Коганова микроцистична епитела дистрофија- рецидивирајуће ерозиј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строфија строме- таложење појединих супстанци у строми- макуларна дистрофија строме- Греноу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Дистрофија задње површине- ендотел- декомпнезација- едем- Фуксова ендотелијална дистроф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ератоконус-предњи и задњи, кераопласти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Content Placeholder 3" descr="fuchs-endothelial-corneal-dystrophy-6137_3.jpg"/>
          <p:cNvPicPr/>
          <p:nvPr/>
        </p:nvPicPr>
        <p:blipFill>
          <a:blip r:embed="rId1"/>
          <a:stretch/>
        </p:blipFill>
        <p:spPr>
          <a:xfrm>
            <a:off x="5472000" y="4114800"/>
            <a:ext cx="3672000" cy="2743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stromal.jpg"/>
          <p:cNvPicPr/>
          <p:nvPr/>
        </p:nvPicPr>
        <p:blipFill>
          <a:blip r:embed="rId2"/>
          <a:stretch/>
        </p:blipFill>
        <p:spPr>
          <a:xfrm>
            <a:off x="2286000" y="2286000"/>
            <a:ext cx="3900600" cy="2743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epithelial.jpg"/>
          <p:cNvPicPr/>
          <p:nvPr/>
        </p:nvPicPr>
        <p:blipFill>
          <a:blip r:embed="rId3"/>
          <a:stretch/>
        </p:blipFill>
        <p:spPr>
          <a:xfrm>
            <a:off x="152280" y="0"/>
            <a:ext cx="33624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Дегенрација рожњач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атолошке промене услед неког локалног или системсог обољењ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нилатералнос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ериферна или ексцентрична локализ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Васкулариза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енаслед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редње или старије животно доб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огресивн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след старења- немају клинички значај, не утичу на квалитет вида, , геронтокс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след таложења хемисјких супстанци- амилоид, хијалин, калцијум, урати, холестреол...-појасаста дегенрација (препарати живе, суво око), ЕД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Content Placeholder 3" descr="arcus-senilis.jpg"/>
          <p:cNvPicPr/>
          <p:nvPr/>
        </p:nvPicPr>
        <p:blipFill>
          <a:blip r:embed="rId1"/>
          <a:stretch/>
        </p:blipFill>
        <p:spPr>
          <a:xfrm>
            <a:off x="304920" y="609480"/>
            <a:ext cx="3314520" cy="3133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band.jpg"/>
          <p:cNvPicPr/>
          <p:nvPr/>
        </p:nvPicPr>
        <p:blipFill>
          <a:blip r:embed="rId2"/>
          <a:stretch/>
        </p:blipFill>
        <p:spPr>
          <a:xfrm>
            <a:off x="4114800" y="3276720"/>
            <a:ext cx="4762440" cy="31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БЕОЊАЧ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cornea-basic-5-638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иброзна опна очне јабуч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ипоји 6 миши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целуларна, непрозирна-има доста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јдебља у пределу лимбуса 1мм, а на месту припоја мишића 0,3м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јвећи отвор за оптички нер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305px-Sclera.PNG"/>
          <p:cNvPicPr/>
          <p:nvPr/>
        </p:nvPicPr>
        <p:blipFill>
          <a:blip r:embed="rId1"/>
          <a:stretch/>
        </p:blipFill>
        <p:spPr>
          <a:xfrm>
            <a:off x="6238800" y="3876840"/>
            <a:ext cx="290520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Еписклерити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граничено запаљење ткива између конјунктиве и беоњач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познатог узрока, чест код системских 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ф дг: укапавање ВЗК капи- губи се црвенило од конјунктивитиса; јак бол- склер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х: КС и НСАИЛ локал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клерити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истемске болести везивног ткива- РА, полимиозитис, СЛЕ, Вегенрова грануломатоза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дњи-нодуларни, дифузни, некротич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дњ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линичка слика: БОЛ, рецидив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х: Системски КС, НСАИЛ, циклоспорин 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ОКАЛНА ТЕРАПИЈА НЕМА ЕФ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Content Placeholder 3" descr="episcleritis.jpg"/>
          <p:cNvPicPr/>
          <p:nvPr/>
        </p:nvPicPr>
        <p:blipFill>
          <a:blip r:embed="rId1"/>
          <a:stretch/>
        </p:blipFill>
        <p:spPr>
          <a:xfrm>
            <a:off x="380880" y="228600"/>
            <a:ext cx="3840120" cy="2743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Scleritis-5.jpg"/>
          <p:cNvPicPr/>
          <p:nvPr/>
        </p:nvPicPr>
        <p:blipFill>
          <a:blip r:embed="rId2"/>
          <a:stretch/>
        </p:blipFill>
        <p:spPr>
          <a:xfrm>
            <a:off x="2666880" y="1981080"/>
            <a:ext cx="3875040" cy="2743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stock-photo-eye-hemorrhage-showing-blood-in-the-conjunctiva-140569468.jpg"/>
          <p:cNvPicPr/>
          <p:nvPr/>
        </p:nvPicPr>
        <p:blipFill>
          <a:blip r:embed="rId3"/>
          <a:stretch/>
        </p:blipFill>
        <p:spPr>
          <a:xfrm>
            <a:off x="5286240" y="4114800"/>
            <a:ext cx="385776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Стафилом скле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окализовано истањење беоњаче услед исањ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след високе кратковидости- задњи п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след запаљења или повреде у предњим дело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Х: нема или сложени хируршки захв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Content Placeholder 3" descr="sta.jpg"/>
          <p:cNvPicPr/>
          <p:nvPr/>
        </p:nvPicPr>
        <p:blipFill>
          <a:blip r:embed="rId1"/>
          <a:stretch/>
        </p:blipFill>
        <p:spPr>
          <a:xfrm>
            <a:off x="380880" y="1066680"/>
            <a:ext cx="3619800" cy="2552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staph.jpeg"/>
          <p:cNvPicPr/>
          <p:nvPr/>
        </p:nvPicPr>
        <p:blipFill>
          <a:blip r:embed="rId2"/>
          <a:stretch/>
        </p:blipFill>
        <p:spPr>
          <a:xfrm>
            <a:off x="3886200" y="3886200"/>
            <a:ext cx="390204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Функција епит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руктурна организација и интегритет епитела спречава улазак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а прекорнеалним сузним филмом обезбеђује глатку површину за правилно преламање светл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премостива баријера за продор микроорганиз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Предња гранична мембр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целуларна- дебљине 12 микрона, испод епител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апред је у контакту са базалном мембраном, а позади са стром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Густо збијена кратка па све дужа колагена влакна која се настављају у стром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ff0000"/>
                </a:solidFill>
                <a:latin typeface="Calibri"/>
              </a:rPr>
              <a:t>Бауманов гранични слој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фикасна заштита за механичку траум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Мања моћ регенерација-пролиферација везивног ткива-ожиља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in7</dc:creator>
  <dc:description/>
  <dc:language>en-US</dc:language>
  <cp:lastModifiedBy>Windows User</cp:lastModifiedBy>
  <dcterms:modified xsi:type="dcterms:W3CDTF">2020-09-26T15:38:04Z</dcterms:modified>
  <cp:revision>31</cp:revision>
  <dc:subject/>
  <dc:title>Рожњача</dc:title>
</cp:coreProperties>
</file>