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5A13-70DA-46D1-816D-06EFC13EC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0729-AD28-4A9A-8923-B21C311F9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09612E-6BB5-4622-B87E-0ACEEEF0C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E445-A579-4D48-84C5-19EF5C80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97F-0AE5-456F-B1A6-CD7B4D85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E61-ECA9-410F-A232-9D14F23F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81F-599E-49AB-BFE8-A59ABA8B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5EEA-E353-4A9D-BCE7-CC38DD5A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43EF-5D1D-4508-9E9F-64D8FDAD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2226-1A2E-482F-8CDD-3AD789F2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005-F6D1-40DD-93A2-513957D0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B8D-E930-46A1-B6DF-B3DA2019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6EC-075B-44D3-B6EE-DD32C8AB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D98-ACF5-41D3-955F-3BFCB191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E264-30FC-4544-B6D7-82918C34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5634-F315-47D8-97F9-86E054B77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5715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13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ЗИТЕТ У КРАГУЈЕВЦУ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ФАКУЛТЕТ МЕДИЦИНСКИХ НАУ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66920" y="5373720"/>
            <a:ext cx="453708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 Татјана Шаренац Вулови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21337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r-R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КЛИНИЧКИХ СЛУЧАЈЕВА </a:t>
            </a:r>
            <a:r>
              <a:rPr b="1" lang="sr-C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ЊАЧ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Win7\Desktop\makula.jpg"/>
          <p:cNvPicPr/>
          <p:nvPr/>
        </p:nvPicPr>
        <p:blipFill>
          <a:blip r:embed="rId1"/>
          <a:stretch/>
        </p:blipFill>
        <p:spPr>
          <a:xfrm>
            <a:off x="971640" y="1844640"/>
            <a:ext cx="3816360" cy="236844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900000" y="549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cula corneae / Status post ulcus corne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539640" y="620640"/>
            <a:ext cx="763272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ацијент стар 34 године, упућен је на Клинику за офталмологију, КЦ Крагујевац из Завода за хитну медицинску помоћ због бола,  црвенила и пада вида на левом 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ацијент наводи да је 7 дана раније имао повреду левог ока, огребала га је грана по том оку док је секао дрва у шу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редно је се јавио офталмологу који је поставио дијагнозу 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erosio corneae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 ординирао следећу терапију (доноси медицинску документацију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g Enbec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x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 лево око 5 д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ештачке сузе без конзерванса на сваких 2 сата у лево 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Т зашт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826920" y="40464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rosio corne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Win7\Desktop\hhh.png"/>
          <p:cNvPicPr/>
          <p:nvPr/>
        </p:nvPicPr>
        <p:blipFill>
          <a:blip r:embed="rId1"/>
          <a:stretch/>
        </p:blipFill>
        <p:spPr>
          <a:xfrm>
            <a:off x="4524480" y="3933720"/>
            <a:ext cx="3751200" cy="2554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755640" y="1628640"/>
            <a:ext cx="691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ŠLOS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: мешовита хиперемија, линерана ерозија рожњаче од 3 до 5 часова парацентрално, флуоресцеин +, предња очна комора дубока, бистрог садржаја, сочиво на месту, прови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826920" y="765000"/>
            <a:ext cx="756144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Након примењене терапија пацијент је осетио побољш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На заказану контролу сутрадан, није се јав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Прописану антибиотску терапију није корист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3 дана након повређивања поново је осетио гребање у левом о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По занимању је професионални возач, па је се на преглед јавио тек по повратку с пута, 7 дана након повред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826920" y="98100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Офталмолошки нал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755640" y="1916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VOD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: 1,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VOS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: 2/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TOD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: 1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TOS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d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ŠLO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аднекса и предњи сегмент уре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ŠLOS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мешовита хиперемија,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овални улкус рожњаче,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хипопион 2-3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FOD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PNO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јасних граница, румена, макула уредна, артерије и вене уред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FOS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не сагледава се због промена на предњем очном сегме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Win7\Desktop\ooo.jpg"/>
          <p:cNvPicPr/>
          <p:nvPr/>
        </p:nvPicPr>
        <p:blipFill>
          <a:blip r:embed="rId1"/>
          <a:stretch/>
        </p:blipFill>
        <p:spPr>
          <a:xfrm>
            <a:off x="971640" y="1628640"/>
            <a:ext cx="5775120" cy="341496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900000" y="6922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400" spc="-1" strike="noStrike">
                <a:solidFill>
                  <a:srgbClr val="000000"/>
                </a:solidFill>
                <a:latin typeface="Calibri"/>
                <a:ea typeface="Arial"/>
              </a:rPr>
              <a:t>Ulcus corneae et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hypopy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900000" y="558972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Индикована је хитна хоспитализација на Клиници за офталмологу, КЦ Крагујева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971640" y="476280"/>
            <a:ext cx="69134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Дијагн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За утврђивање узрочника непоходно је узети брис вежњчање и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craping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”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рожњ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Међутим, ово клиничко стање, због ризика од перфорације рожњаче и развоја ендофталмитиса захтева хитну, емпиријску, терап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Клиничка слика, уз податке раније ерозије рожњаче, указује да је у питању бактеријски кератит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900000" y="836640"/>
            <a:ext cx="69120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ol  Floxal </a:t>
            </a:r>
            <a:r>
              <a:rPr b="0" i="1" lang="sr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на сваких сат времена по једна кап у лево 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ol Gentamycin</a:t>
            </a:r>
            <a:r>
              <a:rPr b="0" i="1" lang="sr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на сваких сат времена по једна кап у лево 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ol Homatropi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% 3x1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кап у лево 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Вештачке сузе без конзерванса на сваких 2 сата у лево о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826920" y="836640"/>
            <a:ext cx="7632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Клинички налаз за лево око 17 дана након хоспитализ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OS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: 0,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TOS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: 16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ŠLOS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око мирно,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дефект епитлизовао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-,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смањење транспаренције у централним деловима по типу макул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бистрог садржаја, хипопион ресорбован,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уска, реактивна,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L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прови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FOS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 отежано се сагледава,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NO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и макула уредне, крвни судови уре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6T07:11:42Z</dcterms:created>
  <dc:creator>Win7</dc:creator>
  <dc:description/>
  <dc:language>en-US</dc:language>
  <cp:lastModifiedBy>Windows User</cp:lastModifiedBy>
  <dcterms:modified xsi:type="dcterms:W3CDTF">2020-09-26T16:50:35Z</dcterms:modified>
  <cp:revision>16</cp:revision>
  <dc:subject/>
  <dc:title>УНИВЕРЗИТЕТ У КРАГУЈЕВЦУ ФАКУЛТЕТ МЕДИЦИНСКИХ НАУКА</dc:title>
</cp:coreProperties>
</file>